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77075" cy="856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B58D-11D8-4FAA-8139-4DF4EB1A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1476-C49A-4221-A571-9A263211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BC5D-4629-479D-BD81-B2E65324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EDFA-F4BB-4388-BA10-082D0DE1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5B53-D58F-4D28-AF02-5131DEB8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E5C5-628B-4CFB-B32D-EFA83793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BB27-D6F0-450B-B439-EB967778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9614-AD12-42F5-AEFF-1F0DF2A8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032A-7FAF-4063-A924-9A8E8BF9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B146-3511-4800-A258-6DF46C15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7A5D-7448-4321-BA86-56E1BD2E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BBE-07F8-4773-AEE5-C38F0727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3A52-6067-4137-9C75-C8B50765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81F5-DA07-476C-B724-E0A06A12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4D72-D34B-4F8A-BF8C-1E4AB94D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975D-399E-4049-A606-A5E13A5E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6654-8806-4276-BD4C-5CEE1DD6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959-A5EA-4FBB-865E-AAC9AE19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8D2-5AFC-4077-846A-AB70A184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098-8128-4ED9-BD3A-B16F65F5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15FB-5DE4-443D-B3DA-4AE83851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C8A-1AB2-4BC4-AC77-A1C3AC52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F967-0413-40A8-9331-773C0A81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702-AC29-4927-A90B-F6C4158D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0900-283D-4DBB-9E9A-6A75EF794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FA33-CD2A-42BB-9083-8404D746274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cdot.com/images/adatransition.jpg&amp;imgrefurl=http://www.sacdot.com/&amp;usg=__0ju2DCF9taeGlQliWWk8ZPrX2V0=&amp;h=70&amp;w=140&amp;sz=9&amp;hl=en&amp;start=49&amp;tbnid=UnQ1cVkYAwQ8GM:&amp;tbnh=47&amp;tbnw=93&amp;prev=/images%3Fq%3DADA%2BTransition%2BPlans%26gbv%3D2%26ndsp%3D20%26hl%3Den%26sa%3DN%26start%3D40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to Develop an ADA Self-Evaluation &amp; Transition 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Jodi Peter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HWA Division Civil Rights Program 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valuation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itical Areas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ublic right-of-way accessing government offices, medical facilities, downtown core areas, school zones, residential areas, et 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t Areas, parks, shared use tr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cess to public buildings (permit/licensing offices, public meeting rooms, etc.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val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nd Res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ventory (and details) of facilities where structural modifications are needed to make facilities accessible to persons with disabil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oundation for Transition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intain in file/available for public inspection for 3 yrs from date of comple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ition 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quired by Rehabilitation Act and the AD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50 plus employees (entire agenc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ublic in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11" descr="adatransi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533520"/>
            <a:ext cx="2251080" cy="113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4" descr="access_logo"/>
          <p:cNvPicPr/>
          <p:nvPr/>
        </p:nvPicPr>
        <p:blipFill>
          <a:blip r:embed="rId3"/>
          <a:stretch/>
        </p:blipFill>
        <p:spPr>
          <a:xfrm>
            <a:off x="4191120" y="3657600"/>
            <a:ext cx="25146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ition 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urpose &amp; Sco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t forth steps necessary to complete modifications identified through self-evaluation (those areas not covered in a previously developed p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ovide a schedule for completing mod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OJ reference to Program Access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ition Plan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tent (at a minimu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dentify physical obsta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cribe the methods to make facilities acce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pecify the schedule for achieving completion (if longer than 1 year, identify steps to be taken each year but as expeditiously as possib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ition 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tent 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dentify official responsible for implementation of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stimated Cost of each mod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atus column to record completion d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ition 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Picture 5" descr="a_Sample_Transition_Plan"/>
          <p:cNvPicPr/>
          <p:nvPr/>
        </p:nvPicPr>
        <p:blipFill>
          <a:blip r:embed="rId1"/>
          <a:stretch/>
        </p:blipFill>
        <p:spPr>
          <a:xfrm>
            <a:off x="1828800" y="2362320"/>
            <a:ext cx="54579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ition Plan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amples of Pl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ancho Cordova, 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acramento, 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ition 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ortant things to remem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ioritize modifications (using same criteria as self-evalu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ordinate/integrate schedule of modifications with planned alterations (paving, building, utility wor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form/educate persons with authority over budget/prioritizing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ition Plan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ortant things to remem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ransition Plan is a living document – evolving planning &amp; monitor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s boundaries grow, so does the need to incorporate acquired facilities into Self-Evaluation/Transition Plan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pecial Requests/Complaints &amp; Transition Plan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val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quired of all ent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habilitation Act of 197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SDOT Implementing Regulations (49 CFR 2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mericans w/Disabilities Act of 199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OJ Implementing Regulations (28 CFR 3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" name="Group 6"/>
          <p:cNvGrpSpPr/>
          <p:nvPr/>
        </p:nvGrpSpPr>
        <p:grpSpPr>
          <a:xfrm>
            <a:off x="3048120" y="4648320"/>
            <a:ext cx="3448080" cy="780840"/>
            <a:chOff x="3048120" y="4648320"/>
            <a:chExt cx="3448080" cy="780840"/>
          </a:xfrm>
        </p:grpSpPr>
        <p:pic>
          <p:nvPicPr>
            <p:cNvPr id="104" name="Picture 4" descr="Department of Justice Seal"/>
            <p:cNvPicPr/>
            <p:nvPr/>
          </p:nvPicPr>
          <p:blipFill>
            <a:blip r:embed="rId1"/>
            <a:stretch/>
          </p:blipFill>
          <p:spPr>
            <a:xfrm>
              <a:off x="5715000" y="46483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Doc1"/>
            <p:cNvPicPr/>
            <p:nvPr/>
          </p:nvPicPr>
          <p:blipFill>
            <a:blip r:embed="rId2"/>
            <a:stretch/>
          </p:blipFill>
          <p:spPr>
            <a:xfrm>
              <a:off x="3048120" y="4681800"/>
              <a:ext cx="812520" cy="71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Picture 5" descr="Wide sidewalk w benches"/>
          <p:cNvPicPr/>
          <p:nvPr/>
        </p:nvPicPr>
        <p:blipFill>
          <a:blip r:embed="rId1"/>
          <a:stretch/>
        </p:blipFill>
        <p:spPr>
          <a:xfrm>
            <a:off x="609480" y="2133720"/>
            <a:ext cx="4038840" cy="2422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Wide Waikiki sw 5"/>
          <p:cNvPicPr/>
          <p:nvPr/>
        </p:nvPicPr>
        <p:blipFill>
          <a:blip r:embed="rId2"/>
          <a:stretch/>
        </p:blipFill>
        <p:spPr>
          <a:xfrm>
            <a:off x="4495680" y="2743200"/>
            <a:ext cx="43214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valu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urpose &amp; Sco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dentify barriers in programs &amp; activities that prevents persons with disabilities from access (includes evaluation of policies/practic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Key – provide equivalent access to the maximum extent fea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broken pavement in crosswalk 2"/>
          <p:cNvPicPr/>
          <p:nvPr/>
        </p:nvPicPr>
        <p:blipFill>
          <a:blip r:embed="rId1"/>
          <a:stretch/>
        </p:blipFill>
        <p:spPr>
          <a:xfrm>
            <a:off x="5562720" y="2819520"/>
            <a:ext cx="2819160" cy="1903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valuation-Barri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Picture 14" descr=""/>
          <p:cNvPicPr/>
          <p:nvPr/>
        </p:nvPicPr>
        <p:blipFill>
          <a:blip r:embed="rId2"/>
          <a:stretch/>
        </p:blipFill>
        <p:spPr>
          <a:xfrm>
            <a:off x="838080" y="2057400"/>
            <a:ext cx="2932200" cy="2892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urbs/Slo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0" descr="lack of level landing"/>
          <p:cNvPicPr/>
          <p:nvPr/>
        </p:nvPicPr>
        <p:blipFill>
          <a:blip r:embed="rId3"/>
          <a:stretch/>
        </p:blipFill>
        <p:spPr>
          <a:xfrm>
            <a:off x="3048120" y="3886200"/>
            <a:ext cx="2819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valuation-Barri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Picture 10" descr="103-0389_IMG_JPG"/>
          <p:cNvPicPr/>
          <p:nvPr/>
        </p:nvPicPr>
        <p:blipFill>
          <a:blip r:embed="rId1"/>
          <a:stretch/>
        </p:blipFill>
        <p:spPr>
          <a:xfrm>
            <a:off x="609480" y="2209680"/>
            <a:ext cx="3810240" cy="239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mmunica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11" descr="104-0439_IMG_JPG"/>
          <p:cNvPicPr/>
          <p:nvPr/>
        </p:nvPicPr>
        <p:blipFill>
          <a:blip r:embed="rId2"/>
          <a:stretch/>
        </p:blipFill>
        <p:spPr>
          <a:xfrm>
            <a:off x="3352680" y="3581280"/>
            <a:ext cx="2590920" cy="24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valuation-Barrier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4" descr="img_0761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21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9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struction Work Z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8" descr="DSC03168"/>
          <p:cNvPicPr/>
          <p:nvPr/>
        </p:nvPicPr>
        <p:blipFill>
          <a:blip r:embed="rId2"/>
          <a:stretch/>
        </p:blipFill>
        <p:spPr>
          <a:xfrm>
            <a:off x="4191120" y="3276720"/>
            <a:ext cx="403848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valuation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dentifying Barriers within public right-of-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urb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idew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edestrian Cross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edestrian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hared Use Tr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arking 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us St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val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veloping the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gency commi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taff resources (i.e., survey/maintenance staff, interns) or contract with knowledgeable consulta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val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eld inspections/surveys (form/checkli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GIS (recording locations/measurem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gway (profiler for reading slop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11" descr="Curb-Ramp-Evaluation"/>
          <p:cNvPicPr/>
          <p:nvPr/>
        </p:nvPicPr>
        <p:blipFill>
          <a:blip r:embed="rId1"/>
          <a:stretch/>
        </p:blipFill>
        <p:spPr>
          <a:xfrm>
            <a:off x="5943600" y="1981080"/>
            <a:ext cx="2552760" cy="2390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Segway-for-Web"/>
          <p:cNvPicPr/>
          <p:nvPr/>
        </p:nvPicPr>
        <p:blipFill>
          <a:blip r:embed="rId2"/>
          <a:stretch/>
        </p:blipFill>
        <p:spPr>
          <a:xfrm>
            <a:off x="4572000" y="3505320"/>
            <a:ext cx="1868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3:50:01Z</dcterms:created>
  <dc:creator>Jodi Petersen</dc:creator>
  <dc:description/>
  <dc:language>en-US</dc:language>
  <cp:lastModifiedBy>Glenn Berry</cp:lastModifiedBy>
  <dcterms:modified xsi:type="dcterms:W3CDTF">2016-03-14T20:58:30Z</dcterms:modified>
  <cp:revision>2</cp:revision>
  <dc:subject/>
  <dc:title>How to Develop an ADA Self-Evaluation &amp; Transition Plan</dc:title>
</cp:coreProperties>
</file>